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0880" y="396900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716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0880" y="3969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7160" y="3969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89600" y="1143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97960" y="1143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0880" y="3969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89600" y="3969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97960" y="3969000"/>
            <a:ext cx="267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5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143000"/>
            <a:ext cx="405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143000"/>
            <a:ext cx="405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969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53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7160" y="3969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1143000"/>
            <a:ext cx="4053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969000"/>
            <a:ext cx="8305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198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8"/>
          <p:cNvGrpSpPr/>
          <p:nvPr/>
        </p:nvGrpSpPr>
        <p:grpSpPr>
          <a:xfrm>
            <a:off x="7238880" y="190440"/>
            <a:ext cx="1481040" cy="529920"/>
            <a:chOff x="7238880" y="190440"/>
            <a:chExt cx="1481040" cy="529920"/>
          </a:xfrm>
        </p:grpSpPr>
        <p:grpSp>
          <p:nvGrpSpPr>
            <p:cNvPr id="3" name="Group 24"/>
            <p:cNvGrpSpPr/>
            <p:nvPr/>
          </p:nvGrpSpPr>
          <p:grpSpPr>
            <a:xfrm>
              <a:off x="7238880" y="190440"/>
              <a:ext cx="470880" cy="529920"/>
              <a:chOff x="7238880" y="190440"/>
              <a:chExt cx="470880" cy="529920"/>
            </a:xfrm>
          </p:grpSpPr>
          <p:sp>
            <p:nvSpPr>
              <p:cNvPr id="4" name="Text Box 8"/>
              <p:cNvSpPr/>
              <p:nvPr/>
            </p:nvSpPr>
            <p:spPr>
              <a:xfrm>
                <a:off x="7405200" y="3520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3"/>
              <p:cNvSpPr/>
              <p:nvPr/>
            </p:nvSpPr>
            <p:spPr>
              <a:xfrm>
                <a:off x="7238880" y="190440"/>
                <a:ext cx="45684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4"/>
              <p:cNvSpPr/>
              <p:nvPr/>
            </p:nvSpPr>
            <p:spPr>
              <a:xfrm>
                <a:off x="7314840" y="266400"/>
                <a:ext cx="38052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Text Box 19"/>
              <p:cNvSpPr/>
              <p:nvPr/>
            </p:nvSpPr>
            <p:spPr>
              <a:xfrm>
                <a:off x="7367040" y="352080"/>
                <a:ext cx="304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" name="Group 23"/>
            <p:cNvGrpSpPr/>
            <p:nvPr/>
          </p:nvGrpSpPr>
          <p:grpSpPr>
            <a:xfrm>
              <a:off x="7734240" y="190440"/>
              <a:ext cx="495000" cy="520560"/>
              <a:chOff x="7734240" y="190440"/>
              <a:chExt cx="495000" cy="520560"/>
            </a:xfrm>
          </p:grpSpPr>
          <p:sp>
            <p:nvSpPr>
              <p:cNvPr id="9" name="Text Box 9"/>
              <p:cNvSpPr/>
              <p:nvPr/>
            </p:nvSpPr>
            <p:spPr>
              <a:xfrm>
                <a:off x="7924680" y="3427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5"/>
              <p:cNvSpPr/>
              <p:nvPr/>
            </p:nvSpPr>
            <p:spPr>
              <a:xfrm>
                <a:off x="7734240" y="190440"/>
                <a:ext cx="4572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6"/>
              <p:cNvSpPr/>
              <p:nvPr/>
            </p:nvSpPr>
            <p:spPr>
              <a:xfrm>
                <a:off x="7848360" y="304560"/>
                <a:ext cx="343080" cy="34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Text Box 20"/>
              <p:cNvSpPr/>
              <p:nvPr/>
            </p:nvSpPr>
            <p:spPr>
              <a:xfrm>
                <a:off x="7886520" y="34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27"/>
            <p:cNvGrpSpPr/>
            <p:nvPr/>
          </p:nvGrpSpPr>
          <p:grpSpPr>
            <a:xfrm>
              <a:off x="8224560" y="190440"/>
              <a:ext cx="495360" cy="520560"/>
              <a:chOff x="8224560" y="190440"/>
              <a:chExt cx="495360" cy="520560"/>
            </a:xfrm>
          </p:grpSpPr>
          <p:sp>
            <p:nvSpPr>
              <p:cNvPr id="14" name="Text Box 10"/>
              <p:cNvSpPr/>
              <p:nvPr/>
            </p:nvSpPr>
            <p:spPr>
              <a:xfrm>
                <a:off x="8415000" y="342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24560" y="190440"/>
                <a:ext cx="4572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77200" y="3427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Text Box 21"/>
              <p:cNvSpPr/>
              <p:nvPr/>
            </p:nvSpPr>
            <p:spPr>
              <a:xfrm>
                <a:off x="8377200" y="342720"/>
                <a:ext cx="342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800" spc="-1" strike="noStrike">
                    <a:solidFill>
                      <a:srgbClr val="003399"/>
                    </a:solidFill>
                    <a:latin typeface="Arial Black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" name="Line 30"/>
          <p:cNvSpPr/>
          <p:nvPr/>
        </p:nvSpPr>
        <p:spPr>
          <a:xfrm>
            <a:off x="304920" y="838080"/>
            <a:ext cx="838188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3399"/>
                </a:solidFill>
                <a:latin typeface="Arial"/>
              </a:rPr>
              <a:t>SIBE: Aufgaben und Rollen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Samuel Schlue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EH Zentrum für Arbeitsmedizin, Ergonomie und Hygiene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Wer ist Arbeitgeber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85840" y="135720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Natürliche oder juristische Person die gegen Lohn oder zwecks Ausbildung Arbeitnehmende beschäft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triebsinh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schäftsleitungt einer Aktiengesell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geber trägt Gesamtverantwortung für Arbeitssicherheit und Gesundheitsschu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geber kann bestimmte Aufgaben übert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.B. S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.B. Arbeitnehmende mit Vorgesetzten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Entsprechend werden Pflichten des Arbeitgebers für betreffende Arbeitnehmende verbind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Delegieren von Verantwortu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Rechteck 2"/>
          <p:cNvSpPr/>
          <p:nvPr/>
        </p:nvSpPr>
        <p:spPr>
          <a:xfrm>
            <a:off x="357120" y="1571760"/>
            <a:ext cx="828684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r Arbeitgeber muss bei einer Übertragung von Aufgaben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rbeitnehmer sorgfältig auswäh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weckmässig ausbilden und instru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Klare Weisungen und Kompetenzen ertei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23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 zumutbarer Weise überw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Delegieren von Verantwortu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Rechteck 2"/>
          <p:cNvSpPr/>
          <p:nvPr/>
        </p:nvSpPr>
        <p:spPr>
          <a:xfrm>
            <a:off x="357120" y="1643040"/>
            <a:ext cx="82868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ie GL trägt grundsätzlich die Verantwortung.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Sie kann Aufgaben intern delegi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legieren bedingt das Beschreiben von Rechten und Pfli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ls praxistauglich hat sich das Benennen eines Arbeitssicherheitsverantwortlichen (SIBE) als interner Koordinator geze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legieren heisst nicht die Verantwortung abge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legieren bedingt immer eine Kontro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Konzept der Branchenlösu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Rectangle 1042"/>
          <p:cNvSpPr/>
          <p:nvPr/>
        </p:nvSpPr>
        <p:spPr>
          <a:xfrm>
            <a:off x="1319040" y="2071800"/>
            <a:ext cx="2349720" cy="67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iele 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3"/>
          <p:cNvSpPr/>
          <p:nvPr/>
        </p:nvSpPr>
        <p:spPr>
          <a:xfrm>
            <a:off x="5281560" y="4281480"/>
            <a:ext cx="2643120" cy="67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Mass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m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44"/>
          <p:cNvSpPr/>
          <p:nvPr/>
        </p:nvSpPr>
        <p:spPr>
          <a:xfrm>
            <a:off x="1166760" y="4205160"/>
            <a:ext cx="2514600" cy="67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folg kontroll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45"/>
          <p:cNvSpPr/>
          <p:nvPr/>
        </p:nvSpPr>
        <p:spPr>
          <a:xfrm>
            <a:off x="5357880" y="2071800"/>
            <a:ext cx="2581200" cy="67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fahren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mitt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046"/>
          <p:cNvSpPr/>
          <p:nvPr/>
        </p:nvSpPr>
        <p:spPr>
          <a:xfrm>
            <a:off x="3481560" y="2260440"/>
            <a:ext cx="922320" cy="917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047"/>
          <p:cNvSpPr/>
          <p:nvPr/>
        </p:nvSpPr>
        <p:spPr>
          <a:xfrm>
            <a:off x="3252960" y="2906640"/>
            <a:ext cx="812520" cy="10224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048"/>
          <p:cNvSpPr/>
          <p:nvPr/>
        </p:nvSpPr>
        <p:spPr>
          <a:xfrm>
            <a:off x="3290760" y="3646440"/>
            <a:ext cx="922320" cy="874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049"/>
          <p:cNvSpPr/>
          <p:nvPr/>
        </p:nvSpPr>
        <p:spPr>
          <a:xfrm>
            <a:off x="3984480" y="3951360"/>
            <a:ext cx="1001880" cy="79992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050"/>
          <p:cNvSpPr/>
          <p:nvPr/>
        </p:nvSpPr>
        <p:spPr>
          <a:xfrm>
            <a:off x="4707000" y="3795840"/>
            <a:ext cx="869760" cy="868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051"/>
          <p:cNvSpPr/>
          <p:nvPr/>
        </p:nvSpPr>
        <p:spPr>
          <a:xfrm>
            <a:off x="4997520" y="3019320"/>
            <a:ext cx="803160" cy="10112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52"/>
          <p:cNvSpPr/>
          <p:nvPr/>
        </p:nvSpPr>
        <p:spPr>
          <a:xfrm>
            <a:off x="4851360" y="2433600"/>
            <a:ext cx="938160" cy="892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053"/>
          <p:cNvSpPr/>
          <p:nvPr/>
        </p:nvSpPr>
        <p:spPr>
          <a:xfrm>
            <a:off x="4194000" y="2205000"/>
            <a:ext cx="906480" cy="73188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54"/>
          <p:cNvSpPr/>
          <p:nvPr/>
        </p:nvSpPr>
        <p:spPr>
          <a:xfrm>
            <a:off x="3909960" y="3262320"/>
            <a:ext cx="121932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Arbeitgeb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1027"/>
          <p:cNvSpPr/>
          <p:nvPr/>
        </p:nvSpPr>
        <p:spPr>
          <a:xfrm>
            <a:off x="357120" y="150012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de-CH" sz="2000" spc="-1" strike="noStrike">
                <a:solidFill>
                  <a:srgbClr val="000000"/>
                </a:solidFill>
                <a:latin typeface="Arial"/>
              </a:rPr>
              <a:t>Geschäftsleitung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als oberster Arbeitgeber ist verantwort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ür die Sicherheit und Gesundheit der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ür die Umsetzung der Branchenlö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de-CH" sz="2000" spc="-1" strike="noStrike">
                <a:solidFill>
                  <a:srgbClr val="000000"/>
                </a:solidFill>
                <a:latin typeface="Arial"/>
              </a:rPr>
              <a:t>Geschäftsleitung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ist verpflich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e Sicherheitsorganisation festzul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inen Sicherheitsbeauftragten (SIBE) zu bestim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rbeitssicherheit / Gesundheitsschutz in Politik einzubi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e Mitwirkung der Arbeitnehmer sicher zu 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inanzielle und personelle Ressourcen bereit zu 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as Arbeitssicherheitshandbuch in Kraft zu se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Kader / Vorgesetzt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57120" y="1428840"/>
            <a:ext cx="8458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Kader (Vorgesetzte)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ist verantwort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ür die Sicherheit und Gesundheit der ihm unterstellten 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Kader (Vorgesetzte)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ist verpflich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Mitarbeiter betreffend Sicherheit und Gesundheit zu informieren und anzul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Umsetzung der Vorgaben zu kontroll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Mitarbeiter ihren Fähigkeiten entsprechend einzuse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Mitarbeitend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57120" y="150012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Mitarbeitenden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sind verantwort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ür ihre eigene Sicherheit und Gesund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ie Mitarbeitenden sind verpflich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Regelungen betreffend Sicherheit und Gesundheit einzuhalten (Weisungen, Schutzausrüst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Mängel betreffend Sicherheit und Gesundheit zu beseitigen, falls sie dazu befähigt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Vorgesetzten auf Mängel aufmerksam zu m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Geschäftsleitung bzgl. Sicherheit und Gesundheit zu unterstü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SI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19" name="Group 34"/>
          <p:cNvGrpSpPr/>
          <p:nvPr/>
        </p:nvGrpSpPr>
        <p:grpSpPr>
          <a:xfrm>
            <a:off x="1214280" y="1643040"/>
            <a:ext cx="4495680" cy="2989440"/>
            <a:chOff x="1214280" y="1643040"/>
            <a:chExt cx="4495680" cy="2989440"/>
          </a:xfrm>
        </p:grpSpPr>
        <p:grpSp>
          <p:nvGrpSpPr>
            <p:cNvPr id="120" name="Group 31"/>
            <p:cNvGrpSpPr/>
            <p:nvPr/>
          </p:nvGrpSpPr>
          <p:grpSpPr>
            <a:xfrm>
              <a:off x="1214280" y="1781280"/>
              <a:ext cx="4495680" cy="2851200"/>
              <a:chOff x="1214280" y="1781280"/>
              <a:chExt cx="4495680" cy="2851200"/>
            </a:xfrm>
          </p:grpSpPr>
          <p:sp>
            <p:nvSpPr>
              <p:cNvPr id="121" name="Oval 15"/>
              <p:cNvSpPr/>
              <p:nvPr/>
            </p:nvSpPr>
            <p:spPr>
              <a:xfrm>
                <a:off x="1214280" y="1781280"/>
                <a:ext cx="4495680" cy="285120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1900080" y="2390760"/>
                <a:ext cx="1219320" cy="458280"/>
              </a:xfrm>
              <a:prstGeom prst="rect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2400" spc="-1" strike="noStrike">
                    <a:solidFill>
                      <a:srgbClr val="000000"/>
                    </a:solidFill>
                    <a:latin typeface="Arial"/>
                  </a:rPr>
                  <a:t>G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1671480" y="3457800"/>
                <a:ext cx="1219320" cy="458280"/>
              </a:xfrm>
              <a:prstGeom prst="rect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24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24"/>
              <p:cNvSpPr/>
              <p:nvPr/>
            </p:nvSpPr>
            <p:spPr>
              <a:xfrm>
                <a:off x="4033800" y="2619360"/>
                <a:ext cx="1218960" cy="458280"/>
              </a:xfrm>
              <a:prstGeom prst="rect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CH" sz="2400" spc="-1" strike="noStrike">
                    <a:solidFill>
                      <a:srgbClr val="000000"/>
                    </a:solidFill>
                    <a:latin typeface="Arial"/>
                  </a:rPr>
                  <a:t>K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WordArt 23"/>
            <p:cNvSpPr txBox="1"/>
            <p:nvPr/>
          </p:nvSpPr>
          <p:spPr>
            <a:xfrm>
              <a:off x="2033280" y="1643040"/>
              <a:ext cx="2895840" cy="1257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5217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+mn-lt"/>
                </a:rPr>
                <a:t>B e t r i e b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126" name="Oval 17"/>
          <p:cNvSpPr/>
          <p:nvPr/>
        </p:nvSpPr>
        <p:spPr>
          <a:xfrm>
            <a:off x="3271680" y="3305160"/>
            <a:ext cx="992520" cy="996840"/>
          </a:xfrm>
          <a:prstGeom prst="ellipse">
            <a:avLst/>
          </a:prstGeom>
          <a:solidFill>
            <a:srgbClr val="ff330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2"/>
          <p:cNvGrpSpPr/>
          <p:nvPr/>
        </p:nvGrpSpPr>
        <p:grpSpPr>
          <a:xfrm>
            <a:off x="1671480" y="3000240"/>
            <a:ext cx="6083280" cy="2805120"/>
            <a:chOff x="1671480" y="3000240"/>
            <a:chExt cx="6083280" cy="2805120"/>
          </a:xfrm>
        </p:grpSpPr>
        <p:sp>
          <p:nvSpPr>
            <p:cNvPr id="128" name="Rectangle 18"/>
            <p:cNvSpPr/>
            <p:nvPr/>
          </p:nvSpPr>
          <p:spPr>
            <a:xfrm>
              <a:off x="6472080" y="3000240"/>
              <a:ext cx="1282680" cy="458280"/>
            </a:xfrm>
            <a:prstGeom prst="rect">
              <a:avLst/>
            </a:prstGeom>
            <a:solidFill>
              <a:srgbClr val="ffcc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A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5176800" y="4981320"/>
              <a:ext cx="2395440" cy="824040"/>
            </a:xfrm>
            <a:prstGeom prst="rect">
              <a:avLst/>
            </a:prstGeom>
            <a:solidFill>
              <a:srgbClr val="ffcc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Durchführungs-org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1671480" y="5133600"/>
              <a:ext cx="2471760" cy="458280"/>
            </a:xfrm>
            <a:prstGeom prst="rect">
              <a:avLst/>
            </a:prstGeom>
            <a:solidFill>
              <a:srgbClr val="ffcc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Branchenlös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33"/>
          <p:cNvGrpSpPr/>
          <p:nvPr/>
        </p:nvGrpSpPr>
        <p:grpSpPr>
          <a:xfrm>
            <a:off x="2738520" y="2847960"/>
            <a:ext cx="3733200" cy="2286000"/>
            <a:chOff x="2738520" y="2847960"/>
            <a:chExt cx="3733200" cy="2286000"/>
          </a:xfrm>
        </p:grpSpPr>
        <p:sp>
          <p:nvSpPr>
            <p:cNvPr id="132" name="Line 25"/>
            <p:cNvSpPr/>
            <p:nvPr/>
          </p:nvSpPr>
          <p:spPr>
            <a:xfrm flipH="1">
              <a:off x="2890440" y="376236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 flipH="1" flipV="1">
              <a:off x="2890800" y="2847960"/>
              <a:ext cx="53280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 flipV="1">
              <a:off x="4109760" y="3076200"/>
              <a:ext cx="45684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 flipH="1">
              <a:off x="2738520" y="4143600"/>
              <a:ext cx="68544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9"/>
            <p:cNvSpPr/>
            <p:nvPr/>
          </p:nvSpPr>
          <p:spPr>
            <a:xfrm>
              <a:off x="4186080" y="4067280"/>
              <a:ext cx="114264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30"/>
            <p:cNvSpPr/>
            <p:nvPr/>
          </p:nvSpPr>
          <p:spPr>
            <a:xfrm flipV="1">
              <a:off x="4262400" y="3305160"/>
              <a:ext cx="22093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SI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Rectangle 1027"/>
          <p:cNvSpPr/>
          <p:nvPr/>
        </p:nvSpPr>
        <p:spPr>
          <a:xfrm>
            <a:off x="357120" y="1428840"/>
            <a:ext cx="8458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er SIBE ist verantwort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ür das Thematisieren von Sicherheit und Gesundheit im Betri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e Mitwirkung der Mitarbeitenden betreffend Sicherheit und Gesundheit im Betrieb sicher zu 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ür den Kontakt mit der Branchenlö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er SIBE ist verpflich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e Aktivitäten betreffend Sicherheit und Gesundheit zu koordinieren und dazu Rechenschaft abzul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ie Linienvorgesetzten anzuhalten, die Vorgaben umzuse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ich weiterzubi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formationen der Branchenlösung intern weiter zu 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SIBE Stellung und Aufgabe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1027"/>
          <p:cNvSpPr/>
          <p:nvPr/>
        </p:nvSpPr>
        <p:spPr>
          <a:xfrm>
            <a:off x="357120" y="1428840"/>
            <a:ext cx="79250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terner Fachmann oder Koordinator für Arbeitssicherheit und Gesundheitsschu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nsprechpartner für Arbeitssicherheit und Gesundheitsschu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ür Belange der Arbeitssicherheit direkt der GL unterst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Überwachung / 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48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Übersich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Gesetzliche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Wer ist Arbeitge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Konzept der Branchen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Verantwortung und Pflich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SI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ufgaben des SI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Aufgabenbeschrieb SIBE gemäss Branchenlösu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Information der  Mitarbeitenden über Branchen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Umsetzung jährlich wiederkehrender Aufgaben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veranla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Umsetzung der Schwerpunktaktionen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veranla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ückmeldungen über Umsetzung sammeln / weiterl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nsprechpartner in Fragen Arbeitssicherheit und Gesundheitsschut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Unfälle, Beinaheunfälle, Gesundheitsschäden, besondere Ereignisse erfassen und allfällige Präventions-massnahmen veranla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550"/>
              </a:spcBef>
              <a:buNone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usbildung SIBE: Grundkurs und Weiterbildung (ERF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Aufgaben SIBE: Organisatorisch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Ziele und Jahresplan erstellen (mit Geschäftsleitung und Tea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Organisation dokumentieren (inkl. Mitwirk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Notfallorganisation organisie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Erfolg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Aufgaben SIBE: Überprüfen / Massnahme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fallprä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efährungsermittlung mit Che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Massnahmenplanung (Einbezug Geschäftsleitung und Team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Unfälle erfassen, analysieren, Massnahmen abl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Gesundheitsförderung (Gesundheitsschut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Bildschirmergonomie: Informieren (Checkliste verteilen), Mängel erfassen und mit Geschäftsleitung Lösungen vereinba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tress: Informieren (Checkliste verteilen), Resultate und Verbesserungsmassnahmen mit Geschäftsleitung und Team bearb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reizeitsicherh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Checklisten Trägerschaft (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Unterlagen Dritter (Suva, BfU) beschaffen und weiterl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sondere Gefahren (Publikumsverkehr, Aussendien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183960"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Informieren (Checklisten verteilen), Resultate und Verbesserungsmassnahmen im Team bearb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Aufgaben SIBE: Schulu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lle Mitarbeitenden zur Branchenlösung und Schwerpunktthemen informie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105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eue Mitarbeitende ein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Grundlegende Ziele von AS+G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Picture 1039" descr="C:\Dokumente und Einstellungen\martens.AEH-ZH\Eigene Dateien\Eigene Bilder\unfall armbruch.jpg"/>
          <p:cNvPicPr/>
          <p:nvPr/>
        </p:nvPicPr>
        <p:blipFill>
          <a:blip r:embed="rId1"/>
          <a:stretch/>
        </p:blipFill>
        <p:spPr>
          <a:xfrm>
            <a:off x="6095880" y="1447920"/>
            <a:ext cx="2514600" cy="16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0" descr="C:\Dokumente und Einstellungen\martens\Eigene Dateien\Eigene Bilder\Unfallcarton.jpg"/>
          <p:cNvPicPr/>
          <p:nvPr/>
        </p:nvPicPr>
        <p:blipFill>
          <a:blip r:embed="rId2"/>
          <a:stretch/>
        </p:blipFill>
        <p:spPr>
          <a:xfrm>
            <a:off x="685800" y="173340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41"/>
          <p:cNvSpPr/>
          <p:nvPr/>
        </p:nvSpPr>
        <p:spPr>
          <a:xfrm>
            <a:off x="744480" y="32148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Unfä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42"/>
          <p:cNvSpPr/>
          <p:nvPr/>
        </p:nvSpPr>
        <p:spPr>
          <a:xfrm>
            <a:off x="630720" y="5958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rankh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43"/>
          <p:cNvSpPr/>
          <p:nvPr/>
        </p:nvSpPr>
        <p:spPr>
          <a:xfrm>
            <a:off x="6173280" y="321480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ehlzeiten &amp; 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44" descr=""/>
          <p:cNvPicPr/>
          <p:nvPr/>
        </p:nvPicPr>
        <p:blipFill>
          <a:blip r:embed="rId3"/>
          <a:srcRect l="29532" t="0" r="29532" b="0"/>
          <a:stretch/>
        </p:blipFill>
        <p:spPr>
          <a:xfrm>
            <a:off x="7543800" y="4495680"/>
            <a:ext cx="75240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45"/>
          <p:cNvSpPr/>
          <p:nvPr/>
        </p:nvSpPr>
        <p:spPr>
          <a:xfrm>
            <a:off x="60958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esetzesverstö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46" descr=""/>
          <p:cNvPicPr/>
          <p:nvPr/>
        </p:nvPicPr>
        <p:blipFill>
          <a:blip r:embed="rId4"/>
          <a:stretch/>
        </p:blipFill>
        <p:spPr>
          <a:xfrm>
            <a:off x="609480" y="4191120"/>
            <a:ext cx="2514600" cy="1684080"/>
          </a:xfrm>
          <a:prstGeom prst="rect">
            <a:avLst/>
          </a:prstGeom>
          <a:ln w="0">
            <a:noFill/>
          </a:ln>
        </p:spPr>
      </p:pic>
      <p:sp>
        <p:nvSpPr>
          <p:cNvPr id="68" name="Oval 1047"/>
          <p:cNvSpPr/>
          <p:nvPr/>
        </p:nvSpPr>
        <p:spPr>
          <a:xfrm>
            <a:off x="2895480" y="1981080"/>
            <a:ext cx="3276720" cy="3276720"/>
          </a:xfrm>
          <a:prstGeom prst="ellipse">
            <a:avLst/>
          </a:prstGeom>
          <a:solidFill>
            <a:srgbClr val="cc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nd das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meiden v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Grundlegende Ziele von AS+G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805040"/>
            <a:ext cx="2698920" cy="2158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Vermeiden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rufsunfäl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rufskrank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rufsbedingten 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rank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095880" y="3379680"/>
            <a:ext cx="2698920" cy="2159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eduzieren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ersönlichem Le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bse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76720" y="2617920"/>
            <a:ext cx="2698560" cy="2158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ördern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ohlbefi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erantwort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6248520" y="1500120"/>
            <a:ext cx="2466720" cy="143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533520" y="4548240"/>
            <a:ext cx="2547720" cy="14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Zusammenhang Arbeit - Gesundhei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 als Quelle von Unfä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Überbeanspruchung als Ursache für Beschwerden und Krankh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071960" y="2714760"/>
            <a:ext cx="3902040" cy="32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rafik 6" descr="gesundheit.jpg"/>
          <p:cNvPicPr/>
          <p:nvPr/>
        </p:nvPicPr>
        <p:blipFill>
          <a:blip r:embed="rId1"/>
          <a:stretch/>
        </p:blipFill>
        <p:spPr>
          <a:xfrm>
            <a:off x="3286080" y="1928880"/>
            <a:ext cx="2332080" cy="2332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Gesundheit am Arbeitsplatz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Rectangle 2051"/>
          <p:cNvSpPr/>
          <p:nvPr/>
        </p:nvSpPr>
        <p:spPr>
          <a:xfrm>
            <a:off x="5786280" y="1071720"/>
            <a:ext cx="335772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Belas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splatz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sumgebung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Klima, Luftqu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rbeitsorganisation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Zeit, Dauer,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Psych. Belastungen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Stress, Lärm, fehlende Privatsphä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51"/>
          <p:cNvSpPr/>
          <p:nvPr/>
        </p:nvSpPr>
        <p:spPr>
          <a:xfrm>
            <a:off x="1500120" y="5357880"/>
            <a:ext cx="628668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Individuelle Fak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Verhal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Individ. Eigenschaften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z.B. Sehschwä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51"/>
          <p:cNvSpPr/>
          <p:nvPr/>
        </p:nvSpPr>
        <p:spPr>
          <a:xfrm>
            <a:off x="357120" y="1071720"/>
            <a:ext cx="33577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9080" indent="-289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Unfallgefah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llgemeine Gefährdungen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Stolpergefah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Besondere Gefährdungen: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Aussendie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Grundsatz für Arbeitgeber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0880" y="1285920"/>
            <a:ext cx="845820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Arbeitgeber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ist verpflichtet, </a:t>
            </a:r>
            <a:br>
              <a:rPr sz="2200"/>
            </a:br>
            <a:r>
              <a:rPr b="1" lang="de-CH" sz="2200" spc="-1" strike="noStrike" u="sng">
                <a:solidFill>
                  <a:srgbClr val="000000"/>
                </a:solidFill>
                <a:uFillTx/>
                <a:latin typeface="Arial"/>
              </a:rPr>
              <a:t>zur Verhütung von Berufsunfällen und Berufskrankheiten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* </a:t>
            </a:r>
            <a:br>
              <a:rPr sz="2200"/>
            </a:b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CH" sz="2200" spc="-1" strike="noStrike" u="sng">
                <a:solidFill>
                  <a:srgbClr val="000000"/>
                </a:solidFill>
                <a:uFillTx/>
                <a:latin typeface="Arial"/>
              </a:rPr>
              <a:t>zum Schutz der Gesundheit der Arbeitnehmer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** </a:t>
            </a:r>
            <a:br>
              <a:rPr sz="2200"/>
            </a:b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alle Massnahmen zu treffen,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nach der Erfahrung notwen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nach dem Stand der Technik anwendbar 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n gegebenen Verhältnissen angemessen si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676520" y="5400720"/>
            <a:ext cx="7162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* Unfallversicherungsgesetz UVG, Art. 82 </a:t>
            </a:r>
            <a:br>
              <a:rPr sz="1200"/>
            </a:b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** Arbeitsgesetz ArG, Art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Grundsatz für Arbeitnehmer *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57120" y="1285920"/>
            <a:ext cx="84582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de-CH" sz="2200" spc="-1" strike="noStrike">
                <a:solidFill>
                  <a:srgbClr val="000000"/>
                </a:solidFill>
                <a:latin typeface="Arial"/>
              </a:rPr>
              <a:t>Arbeitnehmer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ist verpflich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ie Weisungen des Arbeitgebers zu befol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Sicherheitsvorschriften zu beach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vorgeschriebene persönliche Schutzausrüstungen zu  benütz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die Sicherheitseinrichtungen richtig zu gebrauc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ängel zu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676520" y="6095880"/>
            <a:ext cx="716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* Unfallversicherungsgesetz UVG, Art. 8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3399"/>
                </a:solidFill>
                <a:latin typeface="Arial"/>
              </a:rPr>
              <a:t>Ergänzende Pflichten der Arbeitgeb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28760" y="1357200"/>
            <a:ext cx="80769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de-CH" sz="2000" spc="-1" strike="noStrike">
                <a:solidFill>
                  <a:srgbClr val="000000"/>
                </a:solidFill>
                <a:latin typeface="Arial"/>
              </a:rPr>
              <a:t>Arbeitgeber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muss alle Massnahmen treffen, die nötig sind,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m den Gesundheitsschutz zu wahren und zu verbessern und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die physische und psychische Gesundheit der Arbeitnehmer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zu gewährleisten.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sbesond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orgen für ergonomisch und hygienisch gute Arbeitsbed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meiden von schädlichen und belästigenden physikalischen, chemischen und biologischen Einflüsse auf die Gesund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meiden übermässig starker oder allzu einseitiger Beanspru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18396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eeignetes Organisieren der Arb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724040" y="5848200"/>
            <a:ext cx="7162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* Verordnung 3 zum Arbeitsgesetz ArGV3, Ar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4:48:59Z</dcterms:created>
  <dc:creator>Schluep</dc:creator>
  <dc:description/>
  <dc:language>en-US</dc:language>
  <cp:lastModifiedBy>undamo</cp:lastModifiedBy>
  <dcterms:modified xsi:type="dcterms:W3CDTF">2013-06-26T08:46:38Z</dcterms:modified>
  <cp:revision>61</cp:revision>
  <dc:subject/>
  <dc:title>PowerPoint-Präsentation</dc:title>
</cp:coreProperties>
</file>